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105-143D-472E-A92A-8B3F6E91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4C2-2329-4578-B8DC-4A51C145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A0F-7646-4732-A9B9-31670D4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2BA-6620-4E73-A595-197CD002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4D5-2717-4C62-8D57-6026080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9F8-EE73-4F96-807B-91138B3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8D85-BE7D-48BC-A2B7-C26A18D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862B-0A70-4557-AF07-C49824F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890-75BC-4D82-A8F2-973F0AE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0E80-630E-4D66-9FC0-35D8ED3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8B80-A756-4780-BB28-73CCF97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B49-BE67-43FB-A280-52DEE5F2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53B2-779B-4BA5-B2F9-5F01CCD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C3F7-FF89-4E2E-B1FC-8878B66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5A39-3028-448F-8AD0-9079B4F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7E8-3E72-424F-9CA0-26CF1933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119-78E2-4F8B-B315-66DA4E6E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446-2DFB-47B3-8CCB-A6D37BED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90C-0F8E-4A7D-8142-6809D3B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FE0-7A71-4778-8A4F-FEAFBD67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562-38A3-4B60-B827-8A6BF58C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29B-53AC-480B-BADF-39D4CB0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044-FDC9-4878-B35A-18BCFE7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4A3-7A7E-4AA7-AB11-368F467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FA6D-D955-44BD-B944-221F7534A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1FB-1C8A-42DE-AF0E-331220EE9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92840" cy="6759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ONTE CASTEL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EGIÃO URB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2197080" y="-603360"/>
            <a:ext cx="12349080" cy="8325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79960" y="31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18760" y="2104200"/>
            <a:ext cx="667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04084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9960" y="1843920"/>
            <a:ext cx="800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amor é bom, não quer o mal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ão sente inveja ou se envaidec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9718560" cy="828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2173320" y="2110680"/>
            <a:ext cx="1099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amor é o fogo que arde sem se v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ferida que dói e não se s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contentamento des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dor que desatina sem do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10404360" cy="689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1044720" y="-41400"/>
            <a:ext cx="11449080" cy="7591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-1549440" y="-733320"/>
            <a:ext cx="11449080" cy="7591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7640" y="17233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um não querer mais que bem querer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solitário andar por entre a gent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um não contentar-se de content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cuidar que se ganha em se per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332000" y="-603360"/>
            <a:ext cx="13465440" cy="8871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26920" y="404280"/>
            <a:ext cx="756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não querer mais que bem quer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olitário andar por entre a g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não contentar-se de 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cuidar que se ganha em se per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4187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estar-se preso por vontad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ervir a quem vence, o vencedo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ter com quem nos mata a leal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ão contrário a si é o mesmo am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757080" y="46080"/>
            <a:ext cx="9901080" cy="7539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28640" y="2026800"/>
            <a:ext cx="768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tou acordado e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os dormem.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ora vejo em part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800000" cy="10544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92680" y="472356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45:24Z</dcterms:created>
  <dc:creator>SEDMS</dc:creator>
  <dc:description/>
  <dc:language>en-US</dc:language>
  <cp:lastModifiedBy>SEDMS</cp:lastModifiedBy>
  <dcterms:modified xsi:type="dcterms:W3CDTF">2010-11-09T01:47:37Z</dcterms:modified>
  <cp:revision>3</cp:revision>
  <dc:subject/>
  <dc:title>MONTE CASTELO</dc:title>
</cp:coreProperties>
</file>